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DEF-7B20-41E6-9D1F-A6EB71D0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8E2-DB81-470E-8B42-4682EDAC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D2AD9-2E91-4586-8E97-6701EE49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33951-F760-4CF3-BF15-47F59EF6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3F19F-CA26-4616-B585-81AD61A7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E634C-180C-4521-8B29-C6157204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EFCF9-217B-42FE-A44B-0A82C289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ACA37-F544-492E-8607-852C4D37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79253-B1A0-4A65-970F-A639439F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FDEB6-0257-4284-A096-674F0B7A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4E07F-4561-4ED0-B9A7-61D5384D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4503D-6E39-4D66-AA09-705DABF6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C8F-6B41-483B-8268-D55946DA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14942-4891-4A9E-941D-2347AA0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21FF3-6C0F-443A-909C-9A1E8667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E607A-B216-472D-AB3B-258ED4EC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E383D-90CD-4F8F-8ABC-C26BA700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38839-7281-4813-BD3F-F1D7A0F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7CA7F-41E6-4952-8BB4-12BF683E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71FE7-2D50-463F-962B-5EF1E8D9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1AE4E-D9BF-49F6-94FF-D60BCB0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7FA23-2A48-4E79-A6D1-4EA11392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1F93F-DFBD-4FD9-93A9-B7AB3791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8B2-A58A-4904-AE9E-182C4215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EEDFA-CE60-43AE-9B82-3708C161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55886-4D73-41B1-89E4-7606F7C8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16615-0278-4C49-ACF1-3533C441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8BD11-2272-4AC8-ACDE-F2C80142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BAB3E-14A5-43AD-8CBA-66AB65C0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3CCC1-B596-450A-8F92-8AA12D3A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C9EDF-2F4B-40E5-83DA-092D251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B7A30-1B8C-42E3-9C0E-723830A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B7EE4-48F5-42FB-B317-955C11C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141A0-03C4-4FF2-94EE-DC09D47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844C-15DC-4959-883B-E3B57EF8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3B8AF-3705-4A69-B8B6-1080D81F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C7E70-9208-487A-BCBB-8C0A6406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DE113-C3EE-47CE-B0F4-3BBD7073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D6A2F-2709-43AF-9600-8B7CDEA6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8F20A-3C9F-4514-869D-06E795DE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E950D-14FE-4EAD-8E64-3445D7C2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F1C64-D0F5-4C47-9C17-A02ED5BE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46AC4-9A1D-464D-9663-766DAC93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EA8B4-702F-4D80-998F-9E3B740E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4D317-78A7-4EC8-85BD-CC8EF10A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1B9E-BCF3-43F3-835E-FB5AF229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8F16A-D6E7-4691-93E4-09CD1E4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74DA5-9D24-4C3E-9CDE-B0037C51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8B94B-D22A-4D1A-A8C0-B55A609E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F2607-9275-4C9A-B8E7-3D4489A4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7143D-5256-444D-95EF-1AA7A18A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F988-98AC-47A7-A30F-373C7769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40D7-2E64-4CA8-AC47-4F8687D7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9E0-3930-4194-B795-A0CC5CA5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B746-4819-4636-8ACB-3BC8E3B2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9498-BA46-4254-9B1B-D08FE87B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67F-659D-477E-83B4-633A3A8E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E05F-EE91-481E-ACFA-66EAAB94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5502-6349-4B4D-9EB6-145EF99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7569-D5BB-4586-B0FF-ED4D18E4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7477-8143-413B-B0F4-005647AE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64E3-D4DC-4225-A73A-BD6FD03D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A50A-86F5-4803-B194-87453F4B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0BD0-831A-46BA-923D-30F79B4A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E176-9993-4AFE-AA82-C3D6F924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BB63-B136-417F-A4C7-14159D9E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485C-4E00-4B15-8B54-99744AFA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07D-D91A-47DE-A5AD-32CF1D36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789B-4AD4-4FCA-99AF-80F7D365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AA9A-4C5F-46AF-A2EA-292022B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8A89-CCEB-4E37-9DC8-580D98C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E352-9816-4708-B774-1630265E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B2C5-D89C-4243-85C7-D768A739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8F68-BA09-4DCD-A69E-7ABC6843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0317-49CA-44B5-9D7C-5CFA09EE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A0D8-70F6-45A9-8ACC-FB9B7F17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66B79-7CDC-421E-9528-51193026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FC2D-8CD1-4181-979D-35FE464E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41D-C5B3-4F0A-B24F-08978C69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C79B-22A4-404D-ACF7-34CFB1A0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6A88-2436-49E3-9257-0F8DE40E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8D7B-8556-4F3A-A483-5BDD06D2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43FF-3FD3-4A5A-870C-9694B335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55F0C-5021-4809-B39F-5254D4B8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BA3F9-90B5-46A5-9DA1-1007D401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39A1-E35A-4522-9C83-77E34A55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382D-AABF-4911-83C5-8BA93F2F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6F54-DFD1-47B8-9B47-862AF47C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6062-2961-4835-9F5F-476637F5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87B-99CD-432A-A64F-BA5E0EBB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D99A-643C-4785-A972-CD3F5736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5991-B4E4-410F-8839-2245BDC7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20323-F35E-42A6-ADA6-D5A86ACF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A58B-3F5D-4C89-9763-299135EC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326F-A325-4C17-96C2-3097437D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DE41-B469-4367-82D6-B0516894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FE2AD-EC89-4D40-A299-BAE4681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E8B56-B3E0-4FE1-9B49-252C743E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E2FB4-88A8-40EE-9FE6-223F4181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BF906-6B18-40AB-870E-6FE3DB6E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5DF-D140-40AA-9734-A4126BC1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D6CA-A1B6-4F89-91A4-7A72DF34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963D8-68F5-4F91-B3AC-85D800F8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4B4E0-61DA-4BD1-8F6D-D1586DD2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B4C8-AA86-46E5-B7DB-93263BB6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E9CAE-D7B8-4F27-9655-FFE75B47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AF5B4-98F1-4346-A043-8B984E3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0DCF-8D53-4A08-BD23-FEC36B06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451F8-E66C-4C83-A529-DF1727F1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2B571-9461-4AF0-9A35-E57831F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2AE0F-6305-44D3-843F-B43846C3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C75-2C30-4AA7-A191-CF2CC8A6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34FE0-BFDE-49EC-884D-E0314017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8EC54-71A5-4AC0-8600-2AA27C4F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96B9-BE77-429C-83DA-2E6864DC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D19EE-4E0E-46B4-A669-E570631A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96E6-DFE2-4766-B7B9-6D5E3E7D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622EA-2700-46EB-B8F2-8FEE4720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5D84A-6092-4A67-9F8A-913D352D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F4B2C-0971-4DC7-A097-637B9250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C4C1-869D-4A8B-A987-417F2E7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5B7A9-DDA3-47AF-9F65-60E977CB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B41-6EF4-4AFE-96DF-01CF90B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073AC-BAA0-4714-B362-139E6E6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4654C-F7CF-4141-9BA8-52EA5693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D7A16-DD3E-4A4B-BB34-5823C30C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FB17-F18A-4972-8682-02F80A9A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6087D-38D9-4778-8020-D750163F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F2B3D-F902-414A-89B3-DE0370B6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D7823-EB68-414D-BE75-0C8F702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B8DD3-2ABF-4D3E-90B8-FA98A870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2D8FF-F893-4E5D-80DC-1DFF8792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D9CC4-933F-4575-9192-2E2B2BDD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5BB-5F10-4285-8AC3-ABF50418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F2296-D2A0-4B2D-A29F-0DE35970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5B842-5330-4943-921B-7C0AEB5E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AC812-88F6-45BA-98CF-75C965A4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989DF-4AC6-4754-8AEA-26D99C3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8726-4133-4F92-AA6E-5D9967A1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55AEC-1D22-459F-8552-BF4E74FD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47A2F-3923-49D6-B2B3-2864AA65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1040C-F685-4B6D-9F0E-D4A5CC63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C9431-8535-4598-A3E3-1E3E584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CD0DC-BB80-4110-A20B-8D6BDA7A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4C660-6774-4FF1-A45A-FE4FA29DCA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6F357-CD1A-47B0-9159-F992FC300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26287E38-A4DD-46A8-A1B6-4DF15D0FB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4956A-8345-45E5-8DE6-17A20AB5FA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16620-83D1-4042-B893-539BEC41E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56BA0-35AE-4872-8860-20A124694A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CC6F9-C248-4FA6-B177-2E405D820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9CDCC-7EE1-4CC6-9141-9347A68A02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CCB42-A71B-4AE1-B374-C252E0A38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041AD-8756-4D76-8816-40ED3134DB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90E74-FD21-4BED-A595-5E32B78BA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1C907-628A-43A0-9458-6A27A6197A8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5042A-9C03-4FA4-8A2A-F230E0D0B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30701-FEBA-41AE-B884-D0959602B9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11F55-EBA2-4184-8167-A0D6E09EA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2C4A1-33BC-4A17-9B4E-E433D85FB9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D3D88-06C6-4B83-8041-83122291C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06690-97F3-4B04-84E0-A0CB07F232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5A1D6-7EA5-4478-8E25-D446FE2A7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48668-CCF6-4136-B5A6-DCE73D3F11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119DD-1593-4056-B6CE-52C6E85A0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D968F-A1F6-4C3E-B8F4-0462B11621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BD197-3C4C-489E-B311-0F9DE642B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CA798-ADCE-4FD2-94B2-00C01186D1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2CC97-7D7F-4A85-8966-7761F63B4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1F195-CB37-478A-A25C-B15DED976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0EE1F-730E-402B-9832-181A1A464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36CA7-0FBF-4825-8D74-06FFF3013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C4C47-F58F-4DA3-B98F-B29E61321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61DD5-6500-4FB3-BF04-6D3720A36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029BA-C01B-429F-95A0-0C8871BF7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C92B8-6EFE-4966-B012-2A0736A7E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6E0F2-93DB-4F5B-A93D-06AE430F8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74489-2908-4BD8-AFA7-0DD16B474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A66BE-ABDC-488D-8599-0C85CE114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46CE8-7991-43B2-9C91-D84C47A81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1A70B-3032-485E-BA41-F8F0584F6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7CBA5-6FC1-4C4A-A3C6-EC060F683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CD4FF-4D35-44AC-BF30-E388A7B27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81943-9F02-4BFA-AF89-E2D0556BE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1C244-13C6-413E-A32C-AAA38E05E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52755-F7E0-4197-894F-C91746647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5C150-302A-4F63-B8B1-4EE7E9755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9E3B7-5F73-4D5F-8E2F-9A725D08E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06BEC-2204-46AD-80DB-805CA14F4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1E960-CA60-4799-BF93-F23965495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09A7E-B6C3-4714-AF4B-4DFF14DBE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A90ED-9A65-49BB-837C-BA9E0FE30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AA657-F220-41DE-A132-EA24BB573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F8DF0-3664-4201-84C8-A8D617D4C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B6AEF-4D41-4C8A-A110-912204F69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46A61-557D-4F34-99DE-57D8AE616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40FB4-F94C-49D0-BFBD-5671DEB4D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D459D-7557-459B-919D-FFD9DACFE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245D1-0D22-43DC-B43C-ED054E776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7D2DE-75FD-4A61-B608-07FB8C7D1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BFD5A-5123-4D03-A33E-F5A6F3D0B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91AB6-9A71-4FFA-B1AA-9F58033DF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9:40:02Z</dcterms:modified>
  <cp:revision>74</cp:revision>
  <dc:subject/>
  <dc:title>Titulní strana – Titulek</dc:title>
</cp:coreProperties>
</file>